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oin.wav" ContentType="audio/x-wav"/>
  <Override PartName="/ppt/media/image18.gif" ContentType="image/gif"/>
  <Override PartName="/ppt/media/image2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21.gif" ContentType="image/gif"/>
  <Override PartName="/ppt/media/image1.png" ContentType="image/png"/>
  <Override PartName="/ppt/media/image14.jpeg" ContentType="image/jpeg"/>
  <Override PartName="/ppt/media/image19.gif" ContentType="image/gif"/>
  <Override PartName="/ppt/media/type.wav" ContentType="audio/x-wav"/>
  <Override PartName="/ppt/media/image17.png" ContentType="image/png"/>
  <Override PartName="/ppt/media/image22.png" ContentType="image/png"/>
  <Override PartName="/ppt/media/image6.png" ContentType="image/png"/>
  <Override PartName="/ppt/media/image23.png" ContentType="image/png"/>
  <Override PartName="/ppt/media/applause.wav" ContentType="audio/x-wav"/>
  <Override PartName="/ppt/media/image5.png" ContentType="image/png"/>
  <Override PartName="/ppt/media/whoosh.wav" ContentType="audio/x-wav"/>
  <Override PartName="/ppt/media/image4.png" ContentType="image/png"/>
  <Override PartName="/ppt/media/laser.wav" ContentType="audio/x-wav"/>
  <Override PartName="/ppt/media/image3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16.png" ContentType="image/png"/>
  <Override PartName="/ppt/media/chimes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CF4-5A7C-400A-A7BC-E255EDD0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429-1187-46D0-9D15-CB1AEC96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5E8-7835-4E8B-8C94-22985F5A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AF4-0263-442A-AB6E-15AE3D0B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F2F-3E3B-4AAC-8954-911F5644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DCA-171D-458F-A2D4-0BE38EF4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45F-01EE-4544-8400-29DC3A52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70B-7D36-44C9-B76E-DDB25BBB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81C-67CA-4E0B-BE1E-5964AEA0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F3E-79E9-4E82-BDB1-5EA86B2C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9A6-E7E5-4078-8AD6-26658B66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C98-5C19-4DCC-AB60-31BF4400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A4D-F095-46A7-ADCB-B65C876B83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applause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4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سم الله الرحمن الرحي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يسر 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مدرسة (فلة حجاج </a:t>
            </a:r>
            <a:r>
              <a:rPr b="0" lang="ar-SA" sz="4400" spc="-1" strike="noStrike">
                <a:solidFill>
                  <a:srgbClr val="e15970"/>
                </a:solidFill>
                <a:latin typeface="Wingdings"/>
                <a:ea typeface="Wingdings"/>
              </a:rPr>
              <a:t>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) الأهلية للبنات</a:t>
            </a: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أن تعرض لك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رنامج</a:t>
            </a:r>
            <a:br>
              <a:rPr sz="4400"/>
            </a:br>
            <a:r>
              <a:rPr b="0" lang="ar-SA" sz="4400" spc="-1" strike="noStrike">
                <a:solidFill>
                  <a:srgbClr val="f0e500"/>
                </a:solidFill>
                <a:latin typeface="Arial"/>
              </a:rPr>
              <a:t>بعنوان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جزى الله فلا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ُ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جزا  الله خيرا فلا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الله جل و علا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الله جل و على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مسؤولية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مسئ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شؤو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شئ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يتوضأ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يتوضؤ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0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152892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40360" y="306864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152892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284720" y="5373720"/>
            <a:ext cx="15285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200" spc="-1" strike="noStrike">
                <a:solidFill>
                  <a:srgbClr val="f0e500"/>
                </a:solidFill>
                <a:latin typeface="Arial"/>
              </a:rPr>
              <a:t>ســـــــؤال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ed1175"/>
                </a:solidFill>
                <a:latin typeface="Arial"/>
              </a:rPr>
              <a:t>ما هي أسباب الأخطاء الإملائية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0" spc="-1" strike="noStrike">
                <a:solidFill>
                  <a:srgbClr val="f0e500"/>
                </a:solidFill>
                <a:latin typeface="Arial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br>
              <a:rPr sz="2200"/>
            </a:br>
            <a:br>
              <a:rPr sz="22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ضعف السمع والبصر وعدم الرعاية الصحيحة والنفسي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قدرة على التمييز بين الأصوات المتقارب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نسيان القاعدة الإملائية الضابط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ضعف في القراءة وعدم التدريب الكافي عليها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تدريس الإملاء على أنه طريقة اختبارية تقوم على اختبار التلميذ في كلمات صعبة بعيدة عن القاموس الكتابي للتلميذ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ربط الإملاء بفروع اللغة العربي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إهمال أسس التهجي السليم الذي يعتمد على العين والأذن واليد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تصويب الأخطاء مباشر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تصحيح التقليدي لأخطاء التلاميذ وعدم مشاركة التلميذ في تصحيح الأخطاء. </a:t>
            </a:r>
            <a:br>
              <a:rPr sz="2500"/>
            </a:br>
            <a:br>
              <a:rPr sz="2200"/>
            </a:b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    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ستخدام اللهجات العامية في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سرعة في إملاء القطعة وعدم الوضوح وعدم النطق السليم للحروف والحركات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قلة التدريبات المصاحبة لكل 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طول القطعة الإملائية مما يؤدي إلى التعب والوقوع في الخطأ الإملائي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اهتمام بأخطاء التلاميذ الإملائي خارج  كراسات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تنويع في طرائق التدريس مما يؤدي إلى الملل والانصراف عن ال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إلمام بعض المعلمين بقواعد الإملاء إلماما كافيا ولا سيما في الهمزات والألف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اللين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ستخدام الوسائل المتنوعة في تدريس الإملاء ولا سيما البطاقات والسبورة الشخصية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والشرائح الشفافة.</a:t>
            </a:r>
            <a:br>
              <a:rPr sz="2500"/>
            </a:b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47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0e500"/>
                </a:solidFill>
                <a:latin typeface="Arial"/>
              </a:rPr>
              <a:t>إن المتأمل في الأخطاء الإملائية الشائعة، يراها لا تخرج عن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همزات في وسط الكلمة أو آخرها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ألف اللينة في آخر الكلم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همزة الوصل والفصل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تاء المربوطة والتاء المفتوح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لام الشمسية واللام القمري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نطق لا تكتب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كتب ولا تنطق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خلط بين الأصوات المتشابهة أو الحروف المتشابهة رسماً.</a:t>
            </a:r>
            <a:br>
              <a:rPr sz="3000"/>
            </a:b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2303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513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31127"/>
                </a:solidFill>
                <a:latin typeface="Arial"/>
              </a:rPr>
              <a:t>إذا ما هو العلاج ؟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31127"/>
                </a:solidFill>
                <a:latin typeface="Arial"/>
              </a:rPr>
              <a:t>للمعلم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حسن المعلم اختيار القطع الإملائية بحيث تتناسب مع مستوى التلاميذ وتخدم أهدافا متعددة: دينية وتربوية ولغو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كثرة التدريبات والتطبيقات المختلفة على المهارات المطلوبة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قرأ المعلم النص قراءة صحيحة واضحة لا غموض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تكليف التلاميذ بواجبات منزلية تتضمن مهارات مختلفة كأن يجمع التلميذ عشرين كلمة تنتهي بالتاء المربوطة وهكذ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عدم التهاون في عملية التصحي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عتني المعلم بتدريب تلاميذه على أصوات الحروف ولا سيما الحروف المتقاربة في مخارجها الصوتية وفي رسمها.</a:t>
            </a:r>
            <a:r>
              <a:rPr b="0" lang="ar-SA" sz="2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31127"/>
                </a:solidFill>
                <a:latin typeface="Arial"/>
              </a:rPr>
              <a:t>للطالب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أذن على حسن الإصغاء لمخارج الحرو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لسان على النطق الصحي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يد المستمر على الكتاب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عين على الرؤية الصحيحة للكلم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جمع الكلمات الصعبة التي يشكو منها الطالب وكتابتها أكثر من مر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القراءة المستمرة بكافة 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( مجلات – كتب – قصص – إعلانات ..الخ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هل تريد معرفة المزي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سأصارحك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بأخطائي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لي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08000" y="3715920"/>
            <a:ext cx="5111640" cy="1143000"/>
          </a:xfrm>
          <a:prstGeom prst="rect">
            <a:avLst/>
          </a:prstGeom>
          <a:solidFill>
            <a:srgbClr val="f0e500"/>
          </a:solidFill>
          <a:ln w="9360">
            <a:solidFill>
              <a:srgbClr val="ed1175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d1175"/>
                </a:solidFill>
                <a:latin typeface="Arial"/>
                <a:cs typeface="DecoType Naskh Variants"/>
              </a:rPr>
              <a:t>المدرستو الئهلية  لبنات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038480" cy="408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3318000">
            <a:off x="4995360" y="2284200"/>
            <a:ext cx="1905120" cy="102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89000"/>
            <a:ext cx="3024000" cy="2376360"/>
          </a:xfrm>
          <a:prstGeom prst="wedgeEllipseCallout">
            <a:avLst>
              <a:gd name="adj1" fmla="val -35199"/>
              <a:gd name="adj2" fmla="val 96828"/>
            </a:avLst>
          </a:prstGeom>
          <a:solidFill>
            <a:srgbClr val="e3ebf1"/>
          </a:solidFill>
          <a:ln w="9360">
            <a:solidFill>
              <a:srgbClr val="ed1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الجميع يقول لي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خطك جميل ولكنه </a:t>
            </a:r>
            <a:r>
              <a:rPr b="1" lang="hi-IN" sz="2500" spc="-1" strike="noStrike">
                <a:solidFill>
                  <a:srgbClr val="f3192e"/>
                </a:solidFill>
                <a:latin typeface="Arial"/>
              </a:rPr>
              <a:t>غير مفهوم</a:t>
            </a:r>
            <a:r>
              <a:rPr b="1" lang="en-US" sz="2500" spc="-1" strike="noStrike">
                <a:solidFill>
                  <a:srgbClr val="94409a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إذا أين الجمال ..؟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2432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f4f67"/>
                </a:solidFill>
                <a:latin typeface="Arial"/>
                <a:cs typeface="Al-Rashed Sayidty"/>
              </a:rPr>
              <a:t>ضعيفًُُُُُُُُ في الإملاء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18440" cy="57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684000" y="3716280"/>
            <a:ext cx="3744720" cy="2665440"/>
          </a:xfrm>
          <a:prstGeom prst="wedgeRoundRectCallout">
            <a:avLst>
              <a:gd name="adj1" fmla="val -48731"/>
              <a:gd name="adj2" fmla="val 72569"/>
              <a:gd name="adj3" fmla="val 16667"/>
            </a:avLst>
          </a:prstGeom>
          <a:solidFill>
            <a:srgbClr val="e3eb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0e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ا يا صديقي نحاول أن نصحح هذه الأخطاء الشائ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000" y="907560"/>
            <a:ext cx="3889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e3ebf1"/>
                </a:solidFill>
                <a:latin typeface="Arial"/>
              </a:rPr>
              <a:t>أين الخطأ  ؟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4379400"/>
            <a:ext cx="50529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شربت ماء نقي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9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9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19640" y="274320"/>
            <a:ext cx="252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3ebf1"/>
                </a:solidFill>
                <a:latin typeface="Arial"/>
              </a:rPr>
              <a:t>الصواب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2479680"/>
            <a:ext cx="5112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47952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3440" y="2492280"/>
            <a:ext cx="40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شربت ماء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8840" y="24922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نـقـيا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700"/>
                            </p:stCondLst>
                            <p:childTnLst>
                              <p:par>
                                <p:cTn id="485" nodeType="after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00"/>
                            </p:stCondLst>
                            <p:childTnLst>
                              <p:par>
                                <p:cTn id="492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600"/>
                            </p:stCondLst>
                            <p:childTnLst>
                              <p:par>
                                <p:cTn id="49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6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7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3640" y="404640"/>
            <a:ext cx="309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 baseline="-25000">
                <a:solidFill>
                  <a:srgbClr val="e3ebf1"/>
                </a:solidFill>
                <a:latin typeface="Arial"/>
                <a:cs typeface="Led Italic Font"/>
              </a:rPr>
              <a:t>أين الخطأ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31924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 المريض يشربو الدو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 rot="1014600">
            <a:off x="824760" y="836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3ebf1"/>
                </a:solidFill>
                <a:latin typeface="Arial"/>
                <a:cs typeface="Kufi Extended Outline"/>
              </a:rPr>
              <a:t>الصواب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6489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المريض  يشربُ الدو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5280" y="4221000"/>
            <a:ext cx="201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Simplified Arabic Fixed"/>
              </a:rPr>
              <a:t>يشر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" y="4221000"/>
            <a:ext cx="876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الباء في يشرب مضمومة وليس بعده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حرف وا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600"/>
                            </p:stCondLst>
                            <p:childTnLst>
                              <p:par>
                                <p:cTn id="52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18 -0.05202 L 0.00035 -0.31445 E">
                                      <p:cBhvr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00"/>
                            </p:stCondLst>
                            <p:childTnLst>
                              <p:par>
                                <p:cTn id="531" nodeType="afterEffect" fill="hold" presetClass="emph" presetID="27" repeatCount="400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6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3440" y="295200"/>
            <a:ext cx="3527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3192e"/>
                </a:solidFill>
                <a:latin typeface="Arial"/>
              </a:rPr>
              <a:t>أين الخطأ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6491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 rtl="1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500" spc="-1" strike="noStrike">
                <a:solidFill>
                  <a:srgbClr val="f0e500"/>
                </a:solidFill>
                <a:latin typeface="Arial"/>
              </a:rPr>
              <a:t>اشمس</a:t>
            </a:r>
            <a:endParaRPr b="0" lang="en-US" sz="1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400"/>
                            </p:stCondLst>
                            <p:childTnLst>
                              <p:par>
                                <p:cTn id="5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37160" y="287280"/>
            <a:ext cx="40291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468a4b"/>
                </a:solidFill>
                <a:latin typeface="Arial"/>
              </a:rPr>
              <a:t>الصواب هو :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914120"/>
            <a:ext cx="548172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4200" spc="-1" strike="noStrike">
                <a:solidFill>
                  <a:srgbClr val="f0e500"/>
                </a:solidFill>
                <a:latin typeface="Arial"/>
              </a:rPr>
              <a:t>الشمس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66280" y="566100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ccff"/>
                </a:solidFill>
                <a:latin typeface="Tahoma"/>
              </a:rPr>
              <a:t>لام ( أل ) الشمسية لاتظهر في النطق ,, ولكن تظهر في الكت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18734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38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7646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bf1"/>
                </a:solidFill>
                <a:latin typeface="Arial"/>
              </a:rPr>
              <a:t>أين الخطأ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65440" y="1914480"/>
            <a:ext cx="5121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700" spc="-1" strike="noStrike">
                <a:solidFill>
                  <a:srgbClr val="ffffff"/>
                </a:solidFill>
                <a:latin typeface="Arial"/>
              </a:rPr>
              <a:t>اللباقه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remove" presetClass="emph" presetID="3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7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1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e3ebf1"/>
                </a:solidFill>
                <a:latin typeface="Arial"/>
              </a:rPr>
              <a:t>هل عرفت الخطأ ؟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0" lang="ar-SA" sz="5400" spc="-1" strike="noStrike">
                <a:solidFill>
                  <a:srgbClr val="ed1175"/>
                </a:solidFill>
                <a:latin typeface="Arial"/>
              </a:rPr>
              <a:t>نعم ياأبطال كما قلت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1720" y="3490920"/>
            <a:ext cx="433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900" spc="-1" strike="noStrike">
                <a:solidFill>
                  <a:srgbClr val="f0e500"/>
                </a:solidFill>
                <a:latin typeface="Tahoma"/>
              </a:rPr>
              <a:t>اللباقة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04920" y="58816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ccff"/>
                </a:solidFill>
                <a:latin typeface="Tahoma"/>
              </a:rPr>
              <a:t>التاء المربوطة عليها نقط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87164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97960" y="40464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والآن خذوا هذه الجملة الخاطئ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7080" y="126828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واستخرجوا الخطأ من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77240" y="3141720"/>
            <a:ext cx="51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كتبت بلقل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0145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100"/>
                            </p:stCondLst>
                            <p:childTnLst>
                              <p:par>
                                <p:cTn id="713" nodeType="afterEffect" fill="hold" presetClass="path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7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ماذا يجب أن تعرف </a:t>
            </a:r>
            <a:br>
              <a:rPr sz="6000"/>
            </a:b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قبل أن نبـــدأ </a:t>
            </a:r>
            <a:br>
              <a:rPr sz="6000"/>
            </a:br>
            <a:r>
              <a:rPr b="1" lang="hi-IN" sz="13600" spc="-1" strike="noStrike">
                <a:solidFill>
                  <a:srgbClr val="f3192e"/>
                </a:solidFill>
                <a:latin typeface="Arial"/>
              </a:rPr>
              <a:t>؟</a:t>
            </a:r>
            <a:endParaRPr b="0" lang="en-US" sz="1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37680" y="69372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هل عرفتم الصواب ياأبطا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2662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89000"/>
            <a:ext cx="2736720" cy="1655640"/>
          </a:xfrm>
          <a:prstGeom prst="irregularSeal1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7880" y="2205000"/>
            <a:ext cx="86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كلامكم صحيح ,, وتكون الكلمة كالآت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4560" y="3284640"/>
            <a:ext cx="373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ffffff"/>
                </a:solidFill>
                <a:latin typeface="Tahoma"/>
              </a:rPr>
              <a:t>بالقلم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013360"/>
            <a:ext cx="140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20120" y="5516640"/>
            <a:ext cx="102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مة القلم مبدوءة ب ( أل ) القمرية وسبقتها الباء ,, فلا يح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ئ من الكل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50"/>
                            </p:stCondLst>
                            <p:childTnLst>
                              <p:par>
                                <p:cTn id="726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8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795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9450"/>
                            </p:stCondLst>
                            <p:childTnLst>
                              <p:par>
                                <p:cTn id="74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743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74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45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8150"/>
                            </p:stCondLst>
                            <p:childTnLst>
                              <p:par>
                                <p:cTn id="753" nodeType="afterEffect" fill="remove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5960" y="69228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أنظروا إلى الخطأ التالي :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 Fixe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92000" y="2421000"/>
            <a:ext cx="108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Tahoma"/>
                <a:cs typeface="DecoType Naskh"/>
              </a:rPr>
              <a:t>انطلقت الكرة كـل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9360" y="4635360"/>
            <a:ext cx="52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من الذي منكم أكتشفه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50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400"/>
                            </p:stCondLst>
                            <p:childTnLst>
                              <p:par>
                                <p:cTn id="7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00720" y="206064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7650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00"/>
                </a:solidFill>
                <a:latin typeface="Arial"/>
                <a:cs typeface="Microsoft Sans Serif"/>
              </a:rPr>
              <a:t>كلامكم صحي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9880" y="177336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Microsoft Sans Serif"/>
              </a:rPr>
              <a:t>  أين اللام في كلمة الصارو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305080" cy="218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51120" y="306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66ff"/>
                </a:solidFill>
                <a:uFillTx/>
                <a:latin typeface="Arial"/>
                <a:cs typeface="Microsoft Sans Serif"/>
              </a:rPr>
              <a:t>وتكون الجملة بعد تصحيحها كالتال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424720" cy="23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11840" y="448308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58136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DecoType Naskh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انطلقت الكرة كــا  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1480" y="458136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لـــ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40"/>
                            </p:stCondLst>
                            <p:childTnLst>
                              <p:par>
                                <p:cTn id="7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40"/>
                            </p:stCondLst>
                            <p:childTnLst>
                              <p:par>
                                <p:cTn id="802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040"/>
                            </p:stCondLst>
                            <p:childTnLst>
                              <p:par>
                                <p:cTn id="8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840"/>
                            </p:stCondLst>
                            <p:childTnLst>
                              <p:par>
                                <p:cTn id="8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84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880"/>
                            </p:stCondLst>
                            <p:childTnLst>
                              <p:par>
                                <p:cTn id="8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45440" cy="5753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أخيراً </a:t>
            </a:r>
            <a:br>
              <a:rPr sz="4000"/>
            </a:b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يا صديقتي</a:t>
            </a:r>
            <a:r>
              <a:rPr b="1" lang="en-US" sz="5000" spc="-1" strike="noStrike">
                <a:solidFill>
                  <a:srgbClr val="ed1175"/>
                </a:solidFill>
                <a:latin typeface="Hacen Sudan Bd"/>
                <a:ea typeface="Hacen Sudan Bd"/>
              </a:rPr>
              <a:t> </a:t>
            </a:r>
            <a:endParaRPr b="0" lang="en-US" sz="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92360" y="404280"/>
            <a:ext cx="54835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طو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Arial"/>
              </a:rPr>
              <a:t>فـخطوة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Arial"/>
              </a:rPr>
              <a:t>نحــو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خــط جميل ورائــ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ـــالي من </a:t>
            </a:r>
            <a:r>
              <a:rPr b="1" lang="hi-IN" sz="4000" spc="-1" strike="noStrike">
                <a:solidFill>
                  <a:srgbClr val="f3192e"/>
                </a:solidFill>
                <a:latin typeface="Arial"/>
              </a:rPr>
              <a:t>الأخطاء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الإملائي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3800" y="1700280"/>
            <a:ext cx="3139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762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شاكرين لكم حسن انتباهكم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متمنين لكم حياة دراسية بدون أخطاء إملائية </a:t>
            </a:r>
            <a:r>
              <a:rPr b="1" lang="ar-SA" sz="30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r>
              <a:rPr b="1" lang="ar-SA" sz="3000" spc="-1" strike="noStrike">
                <a:solidFill>
                  <a:srgbClr val="66ccff"/>
                </a:solidFill>
                <a:latin typeface="Hacen Sudan Bd"/>
                <a:ea typeface="Hacen Sudan Bd"/>
              </a:rPr>
              <a:t>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مع تحيات المعلمة 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عجايب بنت الشاي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زعيمة مضيف فلة حجاج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عدوة الشيبان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197160" cy="41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5516640"/>
            <a:ext cx="2808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mmr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d1175"/>
                </a:solidFill>
                <a:latin typeface="Arial"/>
              </a:rPr>
              <a:t>الإملاء الصحيح مهم في حياتنا 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تظهرُ اهمية الإملاء في اللغة من كونهِ يؤدي وظيفتهِ اللغو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التوفيق بين القراءةِ والكتابـة ، عن طريق رسم الحروف وترتيبها ، لتركيب الكلمات والجمل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شكل يؤدي الى فهم المعاني . . .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إن كانت القواعد النحويــة والضوابط الصرفيـة وسيلة الى صحة الكتابة من النواحي الاعرابية والاشتقاق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الإملاء وسيلــة الى صحتها من حيث الصورة الخطيّـة لتؤدي مهمتها في الفه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7080" cy="12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0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0e500"/>
                </a:solidFill>
                <a:latin typeface="Arial"/>
              </a:rPr>
              <a:t>هل تعلم ..</a:t>
            </a: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أنك قد تتعرض لمشاكل</a:t>
            </a:r>
            <a:br>
              <a:rPr sz="4000"/>
            </a:b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1" lang="hi-IN" sz="8000" spc="-1" strike="noStrike">
                <a:solidFill>
                  <a:srgbClr val="f3192e"/>
                </a:solidFill>
                <a:latin typeface="Arial"/>
                <a:cs typeface="Bader"/>
              </a:rPr>
              <a:t>خطيــــرة</a:t>
            </a:r>
            <a:br>
              <a:rPr sz="8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بسبب إملائك الضعيف ؟؟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898800" cy="335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898800" cy="335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636480"/>
            <a:ext cx="8569080" cy="581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e96f2b"/>
                </a:solidFill>
                <a:latin typeface="Arial"/>
                <a:cs typeface="Bader"/>
              </a:rPr>
              <a:t>هيا نتعرف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على  بعض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هذه الأخطاء </a:t>
            </a:r>
            <a:r>
              <a:rPr b="1" lang="hi-IN" sz="7000" spc="-1" strike="noStrike">
                <a:solidFill>
                  <a:srgbClr val="f3192e"/>
                </a:solidFill>
                <a:latin typeface="Arial"/>
                <a:cs typeface="Bader"/>
              </a:rPr>
              <a:t>الخطيرة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877000"/>
            <a:ext cx="8893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تعرضت أحد الصحف لمشكله كبيرة بسبب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خطأ إملائي .. فقد كتبت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..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25600"/>
            <a:ext cx="835164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فضيح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بدلاً من .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66ff33"/>
                </a:solidFill>
                <a:latin typeface="Arial"/>
              </a:rPr>
              <a:t>فضيل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كذلك في أحد المدارس كُتب في مجلة المدرسة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01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يشكُر المُدرس الطالب </a:t>
            </a: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الباطل !!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كان يقصد (</a:t>
            </a:r>
            <a:r>
              <a:rPr b="1" lang="hi-IN" sz="4400" spc="-1" strike="noStrike">
                <a:solidFill>
                  <a:srgbClr val="66ff33"/>
                </a:solidFill>
                <a:latin typeface="Arial"/>
              </a:rPr>
              <a:t>البـــطـــ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صديقي أنظر إلى أخطائي الإملائي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تي أتعرض لها دائماً 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7:29:10Z</dcterms:created>
  <dc:creator>pc</dc:creator>
  <dc:description/>
  <dc:language>en-US</dc:language>
  <cp:lastModifiedBy>pc</cp:lastModifiedBy>
  <dcterms:modified xsi:type="dcterms:W3CDTF">2008-02-28T17:25:48Z</dcterms:modified>
  <cp:revision>9</cp:revision>
  <dc:subject/>
  <dc:title>بسم الله الرحمن الرحيم  يسر مدرسة النعيرية الأهلية للبنات  أن تعرض لكم  برنامج بعنوان</dc:title>
</cp:coreProperties>
</file>